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C86E-D21C-4FB0-9394-8BBBC8E0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AD63-A2D5-49E0-960D-76A5C97E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852C-2810-42F1-B5FB-12003EDB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DF8F-E7AC-4D48-94B3-B057824B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5A02-1398-47FB-B3D3-9AF3392B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7EC2-E504-4993-960B-FC58F812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7940-C5D7-4EAB-9D98-B8A6961A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47B2-1D9E-45D8-906A-4E09FB93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09E-44A6-408E-B6E0-CB831C7F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89C4-36F7-49D6-A275-DF4B93DD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EDA3-EA4C-4D8B-9347-207D70D4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4722-7412-48EF-A895-40CB87D5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299C-EE6B-4831-85A6-A1E98E079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ervaseprograms.georgetown.edu/hc/plagiarism.html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opyright and Plagia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Educating Teachers and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304812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001000" y="304812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614376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Certain materials are included under the fair use </a:t>
            </a:r>
            <a:br>
              <a:rPr sz="900"/>
            </a:b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exemption of the U. S. Copyright Law and have been </a:t>
            </a:r>
            <a:br>
              <a:rPr sz="900"/>
            </a:b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repared according to the fair use multimedia guidelines </a:t>
            </a:r>
            <a:br>
              <a:rPr sz="900"/>
            </a:b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and are restricted from further us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3657600"/>
            <a:ext cx="4190760" cy="17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ynn Zottnic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al Technolog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keview Academ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The Law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1295280"/>
            <a:ext cx="36576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3880" y="15238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pyright L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duca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air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23623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A single copy can be made of any of the following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57400" y="3429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 chapter from a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3962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n article from a periodical or news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45115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 short story, short essay, or short poem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whether or not it is from a collectiv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5425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 graph, chart, diagram, picture or cartoon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from a book, periodical or news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The Law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1295280"/>
            <a:ext cx="36576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5238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pyright L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duca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air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2514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he copy must meet these requireme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33526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st of </a:t>
            </a: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brevity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of the material, the </a:t>
            </a: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spontaneity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, and the </a:t>
            </a: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cumulative effect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of the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4648320"/>
            <a:ext cx="640080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ll copies must include a notice of copyr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CE: THIS MATERIAL MAY BE PROTECTED B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YRIGHT LA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 17 U.S&gt;.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The Law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1295280"/>
            <a:ext cx="36576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15238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pyright Law: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ducational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ir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2514600"/>
            <a:ext cx="7467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3048120"/>
            <a:ext cx="662940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urpose of the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ture of the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mount of the portion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ffect on the potential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00200" y="2514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Before copying, consider the follow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The Law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1295280"/>
            <a:ext cx="213336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47920" y="13716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pyright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76520" y="473868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Using someone else's work and turning it in as if you had done the work yoursel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20732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efinition: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using another person's ideas or 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   creative work </a:t>
            </a: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without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ferencing your sou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76520" y="3048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araphras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374976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opying and pasting text, graphics or media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from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57913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Not putting quote marks around exact excerp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62720" y="5335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78680" y="6629400"/>
            <a:ext cx="4621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initions of Library and Information Technology Columbus Gorge Community Colle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The Resourc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1295280"/>
            <a:ext cx="380988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1447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ducating Teachers: How to Avo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62720" y="5335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47920" y="4282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quire students to write an initial draft before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   they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3139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Design assignments that cannot be easily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   plagiar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54259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each students to manage their time 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 – set up checkpoints for their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23623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Understand why students plagi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The Resourc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1295280"/>
            <a:ext cx="380988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1447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ducating Teachers: How to Avo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62720" y="5335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24382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each students to keep careful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34290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quire a research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47920" y="4495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Educate students about plagia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54864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nstitute highly visible procedures for monitoring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  and detecting cheat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5335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1661400"/>
            <a:ext cx="67057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ertainly the plagiarism, and dealing with the fallout of it, was the most difficult thing I've ever faced since I started writing.”</a:t>
            </a:r>
            <a:br>
              <a:rPr sz="2400"/>
            </a:br>
            <a:br>
              <a:rPr sz="10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ora Rober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3871080"/>
            <a:ext cx="66294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r. Fitzgerald, I believe that is how he spells his name, seems to believe that plagiarism begins at home.”</a:t>
            </a:r>
            <a:br>
              <a:rPr sz="2400"/>
            </a:br>
            <a:br>
              <a:rPr sz="10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Zelda Fitzgeral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3505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The Quot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52480" y="1219320"/>
            <a:ext cx="27432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62720" y="5335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76520" y="2910240"/>
            <a:ext cx="67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t’s our responsibil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1295280"/>
            <a:ext cx="84582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ngejan, Tony. "NECC 2007 program_search |  Program: search result details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UO Continuing Education Hom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26 Jun 2007. 12 Jul 2007 &lt;http://center.uoregon.edu/ISTE/NECC2007/program/search_results_details.php?sessionid=40438391&amp;selection_id=41930179&amp;rownumber=2&amp;max=2&gt;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emer, Ryan, “A Copyright Law Primer.” October 16, 2006. July 12, 2007.&lt;transcriptions.files.wordpress.com/2006/10/ucsb-ip-lecture1.ppt 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ngeman, Eric. "RIAA launches propaganda, lawsuit offensive against college students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Ars Technic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1 Mar 2007. 12 Jul 2007 &lt;http://arstechnica.com/news.ars/post/20070301-8953.html&gt;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"Statute of Anne - Wikipedia, the free encyclopedia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Main Page - Wikipedia, the free encyclopedi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17 May 2007. 12 Jul 2007 &lt;http://en.wikipedia.org/wiki/Statute_of_Anne&gt;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"THE FIRST US COPYRIGHT LAW - Archiving Early America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Archiving Early America: Primary Source Material from 18th Century Americ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1 Jan 1996. 12 Jul 2007 &lt;http://www.earlyamerica.com/earlyamerica/firsts/copyright/&gt;.</a:t>
            </a:r>
            <a:br>
              <a:rPr sz="1400"/>
            </a:b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mpbell, Don. "National CrossTalk -- Vol. 14 / No. 1 -- Winter 2006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Higher Educati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1 Dec 2006. 12 Jul 2007 &lt;http://www.highereducation.org/crosstalk/ct0106/news0106-plagiarism.shtml&gt;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nor Council, Georgetown. "Georgetown University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Georgetown Universit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4 Apr 2007. 12 Jul 2007 &lt;http://gervaseprograms.georgetown.edu/hc/plagiarism.html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3520" y="1143000"/>
            <a:ext cx="1143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04920" y="1447920"/>
            <a:ext cx="85341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uthor, An. "Definitions of Library and Information Terminology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cgcc ho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18 May 0006. 12 Jul 2007 &lt;http://www.cgcc.cc.or.us/Library/lib-instruction/define-terms.htm&gt;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Copyright in Classrooms: University of Illinois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University of Illinois at Chicago (UIC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15 Dec 2006. 12 Jul 2007 &lt;http://www.uic.edu/depts/lib/copyright/classroom.shtml&gt;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oseph, Linda. "Copyright with Cyberbee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CyberBe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 7 Nov 2004. 12 Jul 2007 &lt;http://www.cyberbee.com/copyrt.html&gt;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yers, Jason. "copyright_main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Instructional Technolog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12 Jul 2007 &lt;http://it.wce.wwu.edu/344/copyright/default.html&gt;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rness, Adam. "Welcome To The FACE Kids Site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Welcome To The FACE Kids Sit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 1 Jan 2001. 12 Jul 2007 &lt;http://www.copyrightkids.org/&gt;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techLEARNING.com | Technology &amp; Learning - The Resource for Education Technology Leaders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techLEARNING.com | Technology &amp; Learning - The Resource for Education Technology Leader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15 Oct 2002. 12 Jul 2007 &lt;http://www.techlearning.com/db_area/archives/TL/2002/10/copyright_quiz.php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4920" y="304920"/>
            <a:ext cx="84582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dits, continu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1066680"/>
            <a:ext cx="358164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1828800"/>
            <a:ext cx="167652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2133720"/>
            <a:ext cx="7467480" cy="40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3300"/>
              </a:buClr>
              <a:buSzPct val="1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SzPct val="1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Tr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SzPct val="1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My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SzPct val="1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History: A Brief History of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SzPct val="1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Law: Educational Fair Use &amp;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SzPct val="1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80880" y="990720"/>
            <a:ext cx="853452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Assessing Student Learning  - five practical guides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Centre for the Study of Higher Education (CSHE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 1 Jan 2002. 12 Jul 2007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http://www.cshe.unimelb.edu.au/assessinglearning/03/plagMain.html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llins, Terry. "teaching with writing - strategies for preventing plagiarism - preventing plagiarism - center for writing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center for writing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 2 Jan 2007. 12 Jul 2007 &lt;http://writing.umn.edu/tww/plagiarism/strategies.html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Instruction - Faculty - Plagiarism - Preventing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University of Texas Librar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29 Jun 2005. 12 Jul 2007 &lt;http://www.lib.utexas.edu/services/instruction/faculty/plagiarism/preventing.html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Plagiarism - DGN Library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District 99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 12 Jul 2007 &lt;http://www.csd99.k12.il.us/north/library/plagiarism.htm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The Bedford/St. Martin's Workshop on Plagiarism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Using Portfolios to Avoid Plagiaris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23 Nov 2005. 12 Jul 2007 &lt;http://bcs.bedfordstmartins.com/plagiarism/default.asp?s=&amp;n=&amp;i=&amp;v=&amp;o=&amp;ns=0&amp;uid=0&amp;rau=0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bme &lt;http://www.bibme.o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rlick, David. "Son of Citation Machine."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on of Citation Machi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29 Oct 2000. 11 Jul 2007 &lt;http://citationmachine.net/&gt;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52280"/>
            <a:ext cx="84582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dits, continu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914400"/>
            <a:ext cx="358164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0880" y="990720"/>
            <a:ext cx="853452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roache, Anne. "RIAA Threatens 19 Universities with Lawsuits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Technology news - CNET News.co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18 Oct 2007.  1 Nov 2007 &lt;http://www.news.com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uckworth, Cary, Liz Kennedy, and Jonathan Lamy. "Newsroom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RIA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18 Oct 2007.  1 Nov 2007 &lt;http://www.riaa.com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leton, Brad. "10 Big Myths about copyright explained."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rad Templeton's Home P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1 Jan. 2004. 20 July 2008 &lt;http://www.templetons.com/brad/copymyths.html&gt;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Plagiarism Quotes."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amous Quotes and Quotations at BrainyQu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1 Jan. 2008. 20 July 2008 &lt;http://www.brainyquote.com/quotes/keywords/plagiarism.html&gt;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152280"/>
            <a:ext cx="84582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dits, continu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914400"/>
            <a:ext cx="358164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The Challenge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523880" y="20570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udents do not understand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pyright law (or value it)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ts impact on the creative work of an individ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35514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eachers do not fully understand …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the concept of “fair us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4800600"/>
            <a:ext cx="6934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echnology is making it easier and easier to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duplicate copyrighted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1600200"/>
            <a:ext cx="381024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The Challenge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18288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ypical Student Comment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600200"/>
            <a:ext cx="381024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2725560"/>
            <a:ext cx="73152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 one is going to take the time to track me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2004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y make so much money, they’ll never miss it.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3809880"/>
            <a:ext cx="655308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 am enhancing the val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419720"/>
            <a:ext cx="716256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 bought it!  Why can’t I do what I want with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5029200"/>
            <a:ext cx="68580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t’s no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lagiarism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 beca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The Myth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1600200"/>
            <a:ext cx="25146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2096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If it doesn't have a copyright notice, it's not copyrighted.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232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If I make up my own stories, but base them on another work, my new work belongs to me.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800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The Truth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00200" y="304776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IAA sent new wave of 401 pre-lawsuit letters to 12 universities this week.”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AA Newsroom, February 21.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1600200"/>
            <a:ext cx="25146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05120" y="4876920"/>
            <a:ext cx="640080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Internet plagiarism is probably by far the most common form of cheating or academic dishonesty," </a:t>
            </a:r>
            <a:br>
              <a:rPr sz="1800"/>
            </a:br>
            <a:br>
              <a:rPr sz="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di Kuo, 2005 Emory University graduate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University's Honor Council Chairman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ational Crosstalk Winter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22255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e Recording Industry Association of America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(RIAA) is pursuing and prosecuting viol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42670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lagiarism has become an epide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The History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1295280"/>
            <a:ext cx="36576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15238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pyright L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Brief Histo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243828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709 – Statute of Anne, Queen Anne of En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31240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790 -  First US Copyright Law, signed by George Washing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3733920"/>
            <a:ext cx="693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443376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976 -  “Fair Use” statute added to the US Copyright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510552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998-  Digital Millennium Copyright Act (DMCA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56991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03 - Teacher A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373392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841 -  Concept of “Fair Use” intro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The Law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1295280"/>
            <a:ext cx="266688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14479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pyright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34290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2362320"/>
            <a:ext cx="7239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ntellectual property protection for original works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   are automatically protected by copyright la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333684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Protection begins at the moment they are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    “</a:t>
            </a: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fixed in a tangible medium.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432756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ights include: </a:t>
            </a: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reproduction, modification,  </a:t>
            </a:r>
            <a:br>
              <a:rPr sz="2400"/>
            </a:b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    distribution, display, and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The Law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1295280"/>
            <a:ext cx="220968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1447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pyright L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w Long Does it L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2590920"/>
            <a:ext cx="7315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reated Prior to January 1,1978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8 years + a 47-year renewal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For practical purposes should be considered to be 75 yea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4114800"/>
            <a:ext cx="723888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reated on or after January 1,197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life of the author plus 70 years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(Sonny Bono Copyright Term Extension A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305920" y="62485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13:10:27Z</dcterms:created>
  <dc:creator>Lakeview</dc:creator>
  <dc:description/>
  <dc:language>en-US</dc:language>
  <cp:lastModifiedBy>Lakeview</cp:lastModifiedBy>
  <dcterms:modified xsi:type="dcterms:W3CDTF">2008-07-21T20:22:56Z</dcterms:modified>
  <cp:revision>289</cp:revision>
  <dc:subject/>
  <dc:title>Slide 1</dc:title>
</cp:coreProperties>
</file>